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pct" ContentType="image/x-pict"/>
  <Override PartName="/ppt/media/image6.jpeg" ContentType="image/jpeg"/>
  <Override PartName="/ppt/media/image7.gif" ContentType="image/gif"/>
  <Override PartName="/ppt/media/image8.jpeg" ContentType="image/jpeg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B42-870C-4305-8C2E-5E856B24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FAC-D8BD-4875-A964-6FC76522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863-856F-40CD-98B5-70DA5CF4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03B-95AF-46C0-9672-73524FB0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66E2-D392-4986-A22C-1944EEF3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BEB3-9852-4CF0-9744-EEA2768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B73-5C1B-431F-B7E4-3A5E3E52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A2B6-9EBA-4BFA-8E37-848FB9C2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6B50-8592-435E-A394-DB5B0C0A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5CE9-13E3-4A22-94FE-FF1E5115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8C4-B887-43F4-A080-5E1E6C9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1DE-7D34-4298-B76F-C61343C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A9E2-5019-422E-BA66-2CD75604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5300-F36C-4C12-8C0E-C9AD6A7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C0F0-AC88-4368-94E7-5405365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75B5-1F31-4713-8335-72C403B5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7604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5920" y="19810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7604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65920" y="4146480"/>
            <a:ext cx="2085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331F-8678-405E-9065-A533C6E4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433-B05D-46A4-A6C6-525094A5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AB7-203E-422C-AAD0-2ED85A2D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821-5222-41AB-B856-0A62521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6477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CB8-73FA-496A-B3CE-B6BDBEC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790-C3EA-4AC5-B018-AA7097C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05000" y="41464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5E9-5436-4499-90E1-4AA6DA8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000" y="1981080"/>
            <a:ext cx="31608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64771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1D6-0542-4CC5-9AF9-BB789E6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67AF-ABC1-4E19-B8FD-40426456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346B-3F20-4131-96EF-0DF5468AA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0120" y="2908440"/>
            <a:ext cx="2847960" cy="3333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4d4d4d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1" lang="en-US" sz="1600" spc="-1" strike="noStrike">
              <a:solidFill>
                <a:srgbClr val="4d4d4d"/>
              </a:solidFill>
              <a:latin typeface="Arial Narrow"/>
            </a:endParaRPr>
          </a:p>
          <a:p>
            <a:pPr lvl="3" marL="1371600" algn="ctr">
              <a:spcBef>
                <a:spcPts val="349"/>
              </a:spcBef>
              <a:buClr>
                <a:srgbClr val="4d4d4d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lvl="4" marL="1828800" algn="ctr">
              <a:spcBef>
                <a:spcPts val="349"/>
              </a:spcBef>
              <a:buClr>
                <a:srgbClr val="4d4d4d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1" lang="en-US" sz="1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3123720"/>
            <a:ext cx="48769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Fraction Divis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57240" y="464832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Narrow"/>
              </a:rPr>
              <a:t>Opposite of Multiplication</a:t>
            </a:r>
            <a:endParaRPr b="0" lang="en-US" sz="1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Division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The order matters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When working word problems, be careful what order you write the problem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The thing being split, cut, sorted, shared, divided, or grouped goes first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How many pieces or how big goes second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828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hocolate is first as it is split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-14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tal divided by How Big is How  Many. 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147240" indent="-14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 containers.</a:t>
            </a:r>
            <a:endParaRPr b="1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381560" cy="5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85800" y="3886200"/>
                <a:ext cx="15048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51080" y="3886200"/>
                <a:ext cx="2214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37080" y="3886200"/>
                <a:ext cx="1795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2120" y="53352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ran puts 5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lbs of chocolate in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lb containers.  How many contai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00"/>
                </a:solidFill>
                <a:latin typeface="Arial Narrow"/>
              </a:rPr>
              <a:t>The Multiplicative Inverse:</a:t>
            </a:r>
            <a:endParaRPr b="0" lang="en-US" sz="54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Flip the numerator and denominator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Called the reciprocal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82872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568520" y="3825720"/>
          <a:ext cx="214164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8520" y="3825720"/>
                    <a:ext cx="214164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o Divide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31622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vert the second number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ltiply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448600" cy="6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86000" y="4724280"/>
                <a:ext cx="419112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Steps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771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Change Whole numbers and mixed numbers to improper fractions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Invert the second fraction (the divisor) and multiply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Cancel if you can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Multiply numerator by numerator and denominator by denominator.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31237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Narrow"/>
              </a:rPr>
              <a:t>Example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33520"/>
                <a:ext cx="11700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77920" y="1981080"/>
                <a:ext cx="125424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74760" y="3505320"/>
                <a:ext cx="1211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43000" y="4876920"/>
                <a:ext cx="2004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4572000" y="2817720"/>
          <a:ext cx="4173480" cy="404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817720"/>
                    <a:ext cx="41734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257800" y="3429000"/>
            <a:ext cx="2819520" cy="2895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1622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381560" cy="503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90720" y="498600"/>
                <a:ext cx="160020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095480" y="1981080"/>
                <a:ext cx="14205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92320" y="3505320"/>
                <a:ext cx="1377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4876920"/>
                <a:ext cx="24638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31237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Narrow"/>
              </a:rPr>
              <a:t>Word Problems</a:t>
            </a:r>
            <a:endParaRPr b="0" lang="en-US" sz="3600" spc="-1" strike="noStrike">
              <a:solidFill>
                <a:srgbClr val="8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Narrow"/>
              </a:rPr>
              <a:t>Commutative</a:t>
            </a:r>
            <a:endParaRPr b="0" lang="en-US" sz="4000" spc="-1" strike="noStrike">
              <a:solidFill>
                <a:srgbClr val="8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Multiplication is commutative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3x4 = 4x3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Is division commutative?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Narrow"/>
              </a:rPr>
              <a:t>NO!</a:t>
            </a:r>
            <a:endParaRPr b="1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43800" y="990720"/>
            <a:ext cx="82872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9:58:25Z</dcterms:created>
  <dc:creator>EITC </dc:creator>
  <dc:description/>
  <dc:language>en-US</dc:language>
  <cp:lastModifiedBy>Parkland High School</cp:lastModifiedBy>
  <dcterms:modified xsi:type="dcterms:W3CDTF">2010-10-12T12:16:50Z</dcterms:modified>
  <cp:revision>12</cp:revision>
  <dc:subject/>
  <dc:title>little italy</dc:title>
</cp:coreProperties>
</file>